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ABF7-F1D1-42F7-B7E2-5D13C3A969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 to Pece editorial on generative models. Maybe put all references at the end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definitions of joint and conditional prob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tress that there are invertible models like encoders and deco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and variance are first and second order statistics – perhaps explain these term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900-DB6F-423A-A99E-8AA44C67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18E-417B-4F0B-B8E8-C4BC4235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8F3-53A5-4E3D-A006-EC36557E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127-C101-47FA-B17E-81E462E5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95A4-CB48-4356-895B-2C5C494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CC5-BE4E-4BBB-8BF1-6B9638D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6A0B-7946-42F4-8E6A-FDA038A0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36CD-453C-45A3-8703-CC16F8BD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680B-778E-421F-8355-CDB718E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68F-7BF2-4A1D-9DDE-B583B30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322C-4B5C-4AFE-B6F7-1D7AB5C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40F-0664-4152-B57C-E8088C8E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AFE5-AD31-4ACE-92EF-10A31666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7170-4645-4AAC-BDC3-3262B7F1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1621-487B-4834-898B-269EA6B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9936-D9A8-4B05-8558-8D7355DE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AEE8-0070-4F54-BA51-0139506B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C61-BC76-4531-8922-EFAFC9C5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2F6-58BA-40B7-B816-4BC854B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FFA-90F6-4C05-945C-DD91E23C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1F2-F5FE-42FA-879E-C3368AAD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AB3-9612-4161-9943-DB0D0AC2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6B6-8515-4F77-A019-418EFD4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19C-E2A9-4194-8DC3-98D1CE1D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B8FE-FF91-485F-BE83-995AC6BD04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B905-C44A-4A32-8C73-97B08D1CFE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 we can build mean and variance maps across our image training data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x_mean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30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20" name="x_std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00360" y="42022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2400" y="426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20040" y="6394320"/>
            <a:ext cx="22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ark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low vari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51814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generate example images by sampling from the distribution set specified by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pixel is treated independent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x_gen1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2819520" cy="2643480"/>
          </a:xfrm>
          <a:prstGeom prst="rect">
            <a:avLst/>
          </a:prstGeom>
          <a:ln w="0">
            <a:noFill/>
          </a:ln>
        </p:spPr>
      </p:pic>
      <p:pic>
        <p:nvPicPr>
          <p:cNvPr id="227" name="x_gen4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28195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tempor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can use hidden variables to represent temporal transitions between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ill see this later in the course for Hidden Markov Models (HMM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now, assume that we can specify a model whereby if we are in some state s at time t (s</a:t>
            </a:r>
            <a:r>
              <a:rPr b="0" lang="en-GB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 then we can predict what state we will be in at time t+1 (s</a:t>
            </a:r>
            <a:r>
              <a:rPr b="0" lang="en-GB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tempor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represent this as a matrix of state trans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assume we can map hidden state to our observable data space (like the traffic light examp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752480" y="4343400"/>
          <a:ext cx="2590920" cy="231156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144800" y="4495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5000" y="609588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21480" y="5638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5000" y="5029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8544800">
            <a:off x="1858320" y="39344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534600">
            <a:off x="3293640" y="39474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556200">
            <a:off x="3714120" y="383292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8556200">
            <a:off x="2418480" y="383292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638680" y="4343400"/>
          <a:ext cx="1943280" cy="231156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66"/>
                          </a:solidFill>
                          <a:latin typeface="ZapfDingbats"/>
                          <a:ea typeface="ZapfDingbat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5078520" y="4522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99080" y="612288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STO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55200" y="5665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9080" y="5056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GET READY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TO 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8544800">
            <a:off x="5754240" y="3951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8544800">
            <a:off x="6327360" y="38761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Times New Roman"/>
              </a:rPr>
              <a:t>AMBER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8544800">
            <a:off x="6942600" y="38862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Times New Roman"/>
              </a:rPr>
              <a:t>GREEN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tempor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 tracker prediction using Variable Length Markov Models (Sage, 200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vlmm_fig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4191120" cy="32529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637600" y="3809880"/>
            <a:ext cx="2623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Times New Roman"/>
              </a:rPr>
              <a:t>Green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veloc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lue: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nstant accel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d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irst order H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Times New Roman"/>
              </a:rPr>
              <a:t>Purple: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Variable Length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der of a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refer to different thing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computational complexity of the underlying hidden process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th order polynomial to describe mo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# of mixtures in a Mixture of Gaussians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bility of a model to generate data based on the amount of previous data available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dicting state using data from previous state  only (first order) or history of last 10 states (tenth ord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and Discriminative models – A Bayesian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346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a model for observable data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nd a set of classification labels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 discriminative model estimates p(c|x) from the training data (using supervised learning like our neural network from an earlier slid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a generative mod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represents the hidden varia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stimate the class probabilities p(c) someh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alculate/estimate joint probabilities p(x,c) from the training data by some (as yet unspecified)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alculate the conditional probabilities p(c|x) using Bayes rule which ‘assigns’ each piece of data to a class (classifier par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nerate using p(c) and ‘sampling’ p(x,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s: Bayesian 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849636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ly model class-conditional densities and pri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777960" cy="320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286000" y="4419720"/>
            <a:ext cx="3809880" cy="807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819520" y="3200400"/>
            <a:ext cx="1143000" cy="320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914400" y="36576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n evaluate posterior probabilities using Bayes theor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54864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will see this in action in later lectur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6960" y="632448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dapted from a slide © Chris Bishop 2004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is all this relevant to Cognitive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cause Generative Models allow us to build our perception guided by expectation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predict the appearance of an object based on our knowledge of what it looked like previously (e.g. Murase and Nayar from lecture 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predict where an object may appear in the next time step (constraining our search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build models that depend on context (Sage, 200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nerative models link observable data to (hidden) underlying proce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model both spatial and temporal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 the Bayesian view we model the class priors and the class conditional dependencies to evaluate likely interpretations of th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pers of interes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veloping context sensitive HMM gesture recognition”, Sage, K, Howell, A, J and Buxton H, International Workshop on Gesture Recognition (GW), Genoa,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earning temporal structure for task based control”, Sage, K et al, in preparation (available at http://www.informatics.sussex.ac.uk/users/khs2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tiv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generative mode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non-mathematical 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ayesian view (need to consider in conjunction with material from later lectu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are they relevant to Cognitive Computer Vis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are they so important to Cognitive Vis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generative models?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non-mathematical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ssume you have some observation data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finition adapted from Pe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nerative models include variables at different levels of abstraction (you can think of these as hidden variables or variables that describe some underlying proc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model is invertible so we can specify the values of the hidden variables and generate observation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 generative models can generate examples of the data that they re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simple generative model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71000" y="2438280"/>
            <a:ext cx="6472440" cy="4267440"/>
            <a:chOff x="1071000" y="2438280"/>
            <a:chExt cx="6472440" cy="4267440"/>
          </a:xfrm>
        </p:grpSpPr>
        <p:grpSp>
          <p:nvGrpSpPr>
            <p:cNvPr id="108" name=""/>
            <p:cNvGrpSpPr/>
            <p:nvPr/>
          </p:nvGrpSpPr>
          <p:grpSpPr>
            <a:xfrm>
              <a:off x="1752480" y="2819520"/>
              <a:ext cx="5790960" cy="3886200"/>
              <a:chOff x="1752480" y="2819520"/>
              <a:chExt cx="5790960" cy="3886200"/>
            </a:xfrm>
          </p:grpSpPr>
          <p:sp>
            <p:nvSpPr>
              <p:cNvPr id="109" name=""/>
              <p:cNvSpPr/>
              <p:nvPr/>
            </p:nvSpPr>
            <p:spPr>
              <a:xfrm>
                <a:off x="1891800" y="3313800"/>
                <a:ext cx="767520" cy="706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91800" y="5080320"/>
                <a:ext cx="767520" cy="7066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91800" y="4161600"/>
                <a:ext cx="767520" cy="7066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52480" y="3101760"/>
                <a:ext cx="1046520" cy="28972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70800" y="5999040"/>
                <a:ext cx="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80320" y="5999040"/>
                <a:ext cx="0" cy="70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24880" y="3172680"/>
                <a:ext cx="2930400" cy="275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31720" y="2819520"/>
                <a:ext cx="1046520" cy="988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96920" y="4020480"/>
                <a:ext cx="1046520" cy="988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01560" y="5433480"/>
                <a:ext cx="1046520" cy="989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36360" y="4020480"/>
                <a:ext cx="1046520" cy="988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9367800">
                <a:off x="4682520" y="3243240"/>
                <a:ext cx="348480" cy="282240"/>
              </a:xfrm>
              <a:prstGeom prst="leftArrow">
                <a:avLst>
                  <a:gd name="adj1" fmla="val 50000"/>
                  <a:gd name="adj2" fmla="val 308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4597400">
                <a:off x="6669360" y="3704040"/>
                <a:ext cx="353160" cy="279000"/>
              </a:xfrm>
              <a:prstGeom prst="leftArrow">
                <a:avLst>
                  <a:gd name="adj1" fmla="val 50000"/>
                  <a:gd name="adj2" fmla="val 3164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0491200">
                <a:off x="6148080" y="5645520"/>
                <a:ext cx="348480" cy="282600"/>
              </a:xfrm>
              <a:prstGeom prst="leftArrow">
                <a:avLst>
                  <a:gd name="adj1" fmla="val 50000"/>
                  <a:gd name="adj2" fmla="val 3082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990800">
                <a:off x="4087440" y="5047200"/>
                <a:ext cx="353520" cy="278640"/>
              </a:xfrm>
              <a:prstGeom prst="leftArrow">
                <a:avLst>
                  <a:gd name="adj1" fmla="val 50000"/>
                  <a:gd name="adj2" fmla="val 31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729160" y="3101760"/>
                <a:ext cx="2372400" cy="4946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659320" y="4515120"/>
                <a:ext cx="97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2659680" y="5433120"/>
                <a:ext cx="2478240" cy="7066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2729160" y="3737880"/>
                <a:ext cx="3837600" cy="56520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92320" y="4089600"/>
                <a:ext cx="878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42480" y="4059000"/>
                <a:ext cx="996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753800" y="4809600"/>
                <a:ext cx="1824120" cy="4118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2659680" y="4656240"/>
                <a:ext cx="2093040" cy="5648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26840" y="2819520"/>
                <a:ext cx="0" cy="388620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071000" y="243828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8920" y="2438280"/>
              <a:ext cx="13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es it meet the criteria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040" y="2819520"/>
            <a:ext cx="4115160" cy="2895480"/>
            <a:chOff x="914040" y="2819520"/>
            <a:chExt cx="4115160" cy="2895480"/>
          </a:xfrm>
        </p:grpSpPr>
        <p:grpSp>
          <p:nvGrpSpPr>
            <p:cNvPr id="137" name=""/>
            <p:cNvGrpSpPr/>
            <p:nvPr/>
          </p:nvGrpSpPr>
          <p:grpSpPr>
            <a:xfrm>
              <a:off x="1371600" y="3124080"/>
              <a:ext cx="3657600" cy="2590920"/>
              <a:chOff x="1371600" y="3124080"/>
              <a:chExt cx="3657600" cy="2590920"/>
            </a:xfrm>
          </p:grpSpPr>
          <p:sp>
            <p:nvSpPr>
              <p:cNvPr id="138" name=""/>
              <p:cNvSpPr/>
              <p:nvPr/>
            </p:nvSpPr>
            <p:spPr>
              <a:xfrm>
                <a:off x="1459440" y="3453480"/>
                <a:ext cx="484560" cy="47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59440" y="4631400"/>
                <a:ext cx="484560" cy="4708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59440" y="4019040"/>
                <a:ext cx="484560" cy="47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71600" y="3312360"/>
                <a:ext cx="660960" cy="19317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35840" y="524412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67960" y="524412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69920" y="3359520"/>
                <a:ext cx="1850760" cy="1837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42680" y="31240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68240" y="392472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86960" y="4866840"/>
                <a:ext cx="660960" cy="659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61400" y="392472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9367800">
                <a:off x="3222000" y="340596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597400">
                <a:off x="4470480" y="371880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491200">
                <a:off x="4147920" y="500796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4990800">
                <a:off x="2839680" y="461376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88280" y="3312360"/>
                <a:ext cx="1498320" cy="3297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44000" y="4254480"/>
                <a:ext cx="61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944360" y="4866840"/>
                <a:ext cx="1565280" cy="4708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987920" y="3735720"/>
                <a:ext cx="2423880" cy="376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8640" y="4057200"/>
                <a:ext cx="573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58160" y="4038840"/>
                <a:ext cx="642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267360" y="4451040"/>
                <a:ext cx="1152000" cy="2743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1944360" y="4348800"/>
                <a:ext cx="1321920" cy="376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29280" y="3124080"/>
                <a:ext cx="0" cy="259092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914040" y="281952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7120" y="28195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410080" y="2895120"/>
            <a:ext cx="3733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it contains hidden varia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it inverti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0" y="5867280"/>
            <a:ext cx="70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ES – it’s a Generative Model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haven’t said how we learned the underlying process 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contrast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10080" y="2895120"/>
            <a:ext cx="3733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it contains hidden varia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it inverti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53360" y="563868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– We can train this simple neural network as a classif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t we cannot recover observation (input) data from a knowledge o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y the output or hidden layers. This is a discriminative mode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371600" y="2819520"/>
            <a:ext cx="3729960" cy="2286000"/>
            <a:chOff x="1371600" y="2819520"/>
            <a:chExt cx="3729960" cy="2286000"/>
          </a:xfrm>
        </p:grpSpPr>
        <p:sp>
          <p:nvSpPr>
            <p:cNvPr id="170" name=""/>
            <p:cNvSpPr/>
            <p:nvPr/>
          </p:nvSpPr>
          <p:spPr>
            <a:xfrm flipH="1">
              <a:off x="1702800" y="4195800"/>
              <a:ext cx="1331640" cy="48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371600" y="2819520"/>
              <a:ext cx="3729960" cy="2286000"/>
              <a:chOff x="1371600" y="2819520"/>
              <a:chExt cx="3729960" cy="228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1371600" y="28195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85640" y="28195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6360" y="28195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19160" y="37339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2480" y="37339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71600" y="46483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46483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6360" y="4648320"/>
                <a:ext cx="456840" cy="4572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88760" y="3267000"/>
                <a:ext cx="203040" cy="484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88760" y="3267000"/>
                <a:ext cx="1184040" cy="552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079360" y="3281400"/>
                <a:ext cx="444240" cy="4698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23960" y="3294000"/>
                <a:ext cx="442440" cy="45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160000" y="3294000"/>
                <a:ext cx="1331640" cy="538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3155400" y="3294000"/>
                <a:ext cx="348840" cy="471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607400" y="4222800"/>
                <a:ext cx="363240" cy="417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85760" y="4208400"/>
                <a:ext cx="496440" cy="444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98360" y="4208400"/>
                <a:ext cx="1466640" cy="45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77600" y="4195800"/>
                <a:ext cx="496440" cy="4698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14360" y="4222800"/>
                <a:ext cx="377640" cy="430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35000" y="2895480"/>
                <a:ext cx="1366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Arial"/>
                  </a:rPr>
                  <a:t>OUTPUT LAYER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52680" y="380988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Arial"/>
                  </a:rPr>
                  <a:t>HIDDEN LAYER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34640" y="4724280"/>
                <a:ext cx="1197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66"/>
                    </a:solidFill>
                    <a:latin typeface="Arial"/>
                  </a:rPr>
                  <a:t>INPUT LAYER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s can be generative in different capacities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ight have a model which represents spatial structure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emporal structure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both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some other aspect of an observable data s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n’t matter as long as the 2 key criteria are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47920" y="2514600"/>
            <a:ext cx="2895480" cy="2590560"/>
            <a:chOff x="1447920" y="2514600"/>
            <a:chExt cx="2895480" cy="2590560"/>
          </a:xfrm>
        </p:grpSpPr>
        <p:pic>
          <p:nvPicPr>
            <p:cNvPr id="198" name="shrub2_1" descr=""/>
            <p:cNvPicPr/>
            <p:nvPr/>
          </p:nvPicPr>
          <p:blipFill>
            <a:blip r:embed="rId1"/>
            <a:stretch/>
          </p:blipFill>
          <p:spPr>
            <a:xfrm>
              <a:off x="1447920" y="2514600"/>
              <a:ext cx="14479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shrub2_10" descr=""/>
            <p:cNvPicPr/>
            <p:nvPr/>
          </p:nvPicPr>
          <p:blipFill>
            <a:blip r:embed="rId2"/>
            <a:stretch/>
          </p:blipFill>
          <p:spPr>
            <a:xfrm>
              <a:off x="2895840" y="2514600"/>
              <a:ext cx="144756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hrub2_18" descr=""/>
            <p:cNvPicPr/>
            <p:nvPr/>
          </p:nvPicPr>
          <p:blipFill>
            <a:blip r:embed="rId3"/>
            <a:stretch/>
          </p:blipFill>
          <p:spPr>
            <a:xfrm>
              <a:off x="1447920" y="3787200"/>
              <a:ext cx="14479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shrub2_25" descr=""/>
            <p:cNvPicPr/>
            <p:nvPr/>
          </p:nvPicPr>
          <p:blipFill>
            <a:blip r:embed="rId4"/>
            <a:stretch/>
          </p:blipFill>
          <p:spPr>
            <a:xfrm>
              <a:off x="2895840" y="3797640"/>
              <a:ext cx="1447560" cy="130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800600" y="2514600"/>
            <a:ext cx="2743200" cy="2571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51814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ining data is a set of images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courtesy CMU databas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form an independent model of each pixel’s statistical propertie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enerative model of spatia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ny pixel consider a list of its grey level values and calculate the mean and variance (these will be our hidden valu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114800"/>
            <a:ext cx="3733920" cy="1973160"/>
          </a:xfrm>
          <a:prstGeom prst="rect">
            <a:avLst/>
          </a:prstGeom>
          <a:solidFill>
            <a:srgbClr val="99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ixel 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,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{25,20,21,23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8,30,20,22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9,21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23.9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14.766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114800"/>
            <a:ext cx="3733920" cy="1922760"/>
          </a:xfrm>
          <a:prstGeom prst="rect">
            <a:avLst/>
          </a:prstGeom>
          <a:solidFill>
            <a:srgbClr val="99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150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8769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48769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8769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5105520"/>
            <a:ext cx="762120" cy="0"/>
          </a:xfrm>
          <a:prstGeom prst="line">
            <a:avLst/>
          </a:prstGeom>
          <a:ln w="9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14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82400" y="56386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6386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2:15:39Z</dcterms:modified>
  <cp:revision>44</cp:revision>
  <dc:subject/>
  <dc:title>Programming Techniques 804G5</dc:title>
</cp:coreProperties>
</file>